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7CA-85F8-4DE9-B0A0-82018163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83C-9D4B-457C-A532-49C1E3A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636-ACCF-4C6E-957A-BCF8A3D9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C24-E15C-44E6-9DE6-7CE1CBFB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AD1D-8A4B-496D-80BF-3C27CFBD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142-D0D2-4AD3-AF46-ECBD4F66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435-8381-4766-A06E-392C83EE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DEFF-C0AC-487D-85FD-4AABB53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82EF-53E6-4241-8376-86CB720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B66E-F2A4-4851-92AE-987D0B99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6F54-E831-4001-9ACD-70C0156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1C8-6525-40FF-B124-D8A9599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8E49-FDA6-49D7-8B7E-BE4F995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EC02-E322-4F15-88D3-8A92BC0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0710-84EB-412A-B554-6EB0B319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FE5-864F-4F40-B9B1-FC7FF9EF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4E80-BCFF-42AB-995E-131C8D64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21BF-BB8B-4CAC-8270-E40B3A1B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E439-44D0-443C-8542-F7AFB4CE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73DC-9160-4EE5-BB0B-FB83711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253E-8A2E-45B9-BB72-3A7C76B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2F52-6362-4351-9ED6-74EA3E22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A17-4450-41A6-B7CD-5E11D2E9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4F24-F434-453E-B89C-F81DBE6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68B0-69BA-487A-97CC-A761A37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AD7C-4D0D-45BA-BC73-13C3EE5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D679-E8BC-44B3-A33F-4901C2D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3DD9-A679-4145-8B04-91D9C420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DB91-79AD-4362-8EF9-1171B8E4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161A-606C-446E-A27B-05FAB969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D748-BA69-48D4-AACF-7F0A98D0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2CE4-8E7D-4C99-B672-2F0B69FD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DACD-FD44-42B1-9D3A-E20C94AC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80E-2F57-4575-8751-E861975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DA334-318F-4F3C-921A-79757DA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48F7-D058-4BE8-8020-2776B1D3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3B21-1B2E-46B2-BA77-E0C3FE5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0D03-B2D9-4D95-A481-92FDB81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75B9-F1D1-472F-989E-3667B9F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FBF8-FEE2-403A-B794-61743A2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0D66-B6DE-4555-B74F-E3113037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7CBC0-AC1D-4AEA-A94E-B1C0ED97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44C8-D3E3-471A-B9CD-2B397FC0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948A4-53AE-4B3A-9A5E-41B4DAE3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E8E-0B70-4519-BA4C-C6281D15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28A4-3D8A-481D-A3FB-999FF6E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8255-AB89-4BAD-AAF3-223C5FC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8D8E-E97A-4098-AF73-A57DB44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DEB5-FFD3-4FCF-A3F9-281870A0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87D7-9558-4208-B8DA-7E856779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BA70-ACE3-4E13-934A-313AEABE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C409-506B-484F-9513-0A19E8E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315EB-FCB4-4B50-8969-B3676C2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ADA1-064D-4F2B-9266-8DC6C8EA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5298-A783-4FA1-AB80-8049D9DC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A34-E886-4124-B43C-D6FBA417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1AD2-CC15-4EDA-91FE-1E8077D6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E769F-8DF0-467F-B069-4F7C763B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6D9F-FF43-41A1-BB4E-9656F574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794F-8A83-4D8D-AC2D-F27137CD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EB18-0942-496D-95FC-EF319F58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D548-69D0-4F33-A1DF-2A9104C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366C-8E9D-4700-924D-A64139B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66F6-8EF4-4EB3-BC97-08C56562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C8218-7538-4B25-BBD4-0A8C0DD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9833-A4D1-42B6-BD10-27E3B9B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BBD-619C-4B37-8959-42925C0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9145-7BA5-4124-A3D3-88CC80E5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584C0-4DA1-4B5F-A492-421B5F4A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868F-8366-4819-A38F-9D60C46C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765-2513-4AE9-B520-AB6A99B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9D3-0347-4A57-B2A7-46DCA55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81CF-16D2-4833-B8BE-7C2F29912D8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3BC-5358-4CB2-8A8C-12036D5267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229-DDDC-4B6E-8268-F55B2449A2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687-941E-4BBE-92A2-15F5B85B1E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6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AB2-D676-44B2-AB61-126EBB6E56A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7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A727-284E-47BE-A72A-79ACB9D3AD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ма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31840" y="3730320"/>
            <a:ext cx="574056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Автор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f1311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блемный вопр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од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спользуемые материа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User_03</cp:lastModifiedBy>
  <dcterms:modified xsi:type="dcterms:W3CDTF">2009-11-25T11:11:13Z</dcterms:modified>
  <cp:revision>62</cp:revision>
  <dc:subject/>
  <dc:title>Слайд 1</dc:title>
</cp:coreProperties>
</file>